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9AC2-AA7C-49EE-9613-83D37674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392-887D-4500-A26E-C051EF11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602-C347-42B6-8C89-B62DDB48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314-822B-4A8C-BA15-3A38044D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3324-904B-4A07-841E-8D6F96B1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220B-C25E-405D-BF62-D1D5C0A1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6CD7-8695-43A8-B30B-581EA850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5CF3-E0FF-471E-8537-5AC0C9AF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825C-9792-4342-A7BF-1F1A06B4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DD27-CCFB-4A18-84BA-FCE874DE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FE32-F922-4CF2-97D8-5A771897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067C-15B9-4C46-B625-459DB02B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2770-2F16-4D34-A29F-754886AA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DA02-4963-470E-A52F-C38170CC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11BA-B2D3-4A59-A02D-A7E076CB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CC70-073E-4318-9B7C-995CE486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0E1D-8477-4AD0-AA28-5DD25348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976C-4DA1-4C9F-AD68-87E5FB43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769C-8E46-49C3-8C4C-4A668E6E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CDEF-550D-4DF6-95E5-3B27AB79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81B1-295D-42AB-A425-91329A89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5EE0-FF70-4412-AEC4-831BC0DE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E2D5-87F4-4EB2-B06F-B4A16895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390D-5F02-463F-9861-6E7340D4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0CFA-7172-4F69-98C7-EEF19D975B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6E38-FFAE-481C-8BCC-7A945CEAC6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adrid.org/" TargetMode="External"/><Relationship Id="rId2" Type="http://schemas.openxmlformats.org/officeDocument/2006/relationships/hyperlink" Target="http://www.munimadrid.es/" TargetMode="External"/><Relationship Id="rId3" Type="http://schemas.openxmlformats.org/officeDocument/2006/relationships/hyperlink" Target="http://www.map.es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EMPLEO PUBL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ONAL FUNCIONARI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SONAL LABO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438280"/>
            <a:ext cx="7619760" cy="3820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OFERTA PÚBLICA DE EMPLEO: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BOLEÍN DEL ESTADO O DE LA ADMINISTARCIÓN AUTONÓMICA O LOCAL CORRESPONDENT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NVOCATORIA. INDICA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SISTEMA DE SELECCIÓN: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8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OPOSICIÓ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8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CONCURS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8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CONCUROS OPOSICÓ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8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BOLSA DE TRABAJ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89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REQUISITOS,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89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SOLICITUD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89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CALENDAR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89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PRUEB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EXÁMENES / PRUEB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794120"/>
            <a:ext cx="4267440" cy="11955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GRUPO A: TITULADO SUPERIOR/ LICENCIAD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GRUPO B: DIPLOMADO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GRUPO C: BACHILLERATO O CFG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GRUPO D: ESO O CFG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8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GRUPOE: CERTIFICADO DE ESTUDIOS</a:t>
            </a: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5334120"/>
            <a:ext cx="83808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371600"/>
            <a:ext cx="716292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0488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CIÓN SOBRE EMPLEO PÚBLIC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94880" y="2257560"/>
            <a:ext cx="7551720" cy="359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ENTROS OFICIALES: TABLONES DE AYUNTAMIENTOS, JUNTAS MUNICIPALES DE DISTRITO, MINISTERIO DE ADMINISTRATICÓN PÚBLIC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OLETINES OFICIAL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MINISTRACIÓN ESTA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MINISTRACIÓN AUTONÓM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MINISTRACIÓN LO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IBLIOTE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TERNET: 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www.madrid.org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(BOCM), 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www.munimadrid.es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(OPOSICIONES Y OFERTAS DE EMPLEO), 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www.map.es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(PROCESOS SELECTIV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RENSA: Mercado de Trabajo, ABC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CADEM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MPLEO PRIVAD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OFERTA DE EMPL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SPUESTA A LA OFERTA EMPL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arta + Curricul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OCESO DE SELE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rueb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ofes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sicotécn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inam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trevista de Sele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TRA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07:56:44Z</dcterms:created>
  <dc:creator>AUTOMOCIÓN</dc:creator>
  <dc:description/>
  <dc:language>en-US</dc:language>
  <cp:lastModifiedBy>AUTOMOCIÓN</cp:lastModifiedBy>
  <dcterms:modified xsi:type="dcterms:W3CDTF">2008-01-23T09:27:41Z</dcterms:modified>
  <cp:revision>2</cp:revision>
  <dc:subject/>
  <dc:title>EMPLEO PÚBLICO</dc:title>
</cp:coreProperties>
</file>